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69A7-0DE8-4C26-90B6-B815AAF7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59DD-ABF5-4EA6-A952-983C83A1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3415-1D3A-40D0-8DC7-BAFFC92E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3F16-4DE1-4F42-8BD9-0FCDEEAF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A0F-1EC8-4EEA-9078-B34168AE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DBA4-9D1C-4B40-AF51-6690DE4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7D2-9C46-4100-9C42-D53B9B70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5F93-05B7-4652-BC9D-C19224BD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D990-3D83-498C-A8A2-3ED795BB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569-29D5-4F0B-8A09-3367A75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4618-8E2C-4F74-B57E-C82E5C9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0EA0-CE00-459D-A078-6113410A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6C3A-3104-4284-B065-7EC307F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7E5C-BFE1-43D1-86AE-13E2899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F667-5EBE-4956-9030-33D61DE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6F2C-ABDB-4F34-B08D-3BA2F66B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EE9-3C07-4180-8898-88F32053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8480-4F91-4DA6-861F-7FA95000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88A0-4942-4028-856A-0EF8917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C114F-2D0B-4721-83D3-02310F51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6D83-9BBF-489E-BDE2-9260597E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7768-A17D-474D-B76F-B32CFBA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513E-B437-4029-BC01-E90E09E6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E3B3-51B7-4B39-87F0-EC7F8C08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36CE-3C5B-4F89-95FD-4612F2402A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0F2B-6CA5-42F5-BDA9-3C68DE4CC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57080" y="476280"/>
            <a:ext cx="10153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Educatore vuol dir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 Insegnare a comportarsi be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Colui che tira fuor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 Colui che organizza fest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. Colui che sa far divertire i bam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Educatore vuol dir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. Insegnare a comportarsi be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Colui che tira fuor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. Colui che organizza fest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D. Colui che sa far divertire i bamb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Cosa vi lega come animatori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Cosa vi lega come animatori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306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5e5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L’amore per i piccol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B.  L’essere giovan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C. L’aver fatto il postcresima insieme 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D. L’anno di nasc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4. Cosa vi lega come animatori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306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5e5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L’amore per i piccol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B.  L’essere giovan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C. L’aver fatto il postcresima insieme 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D. L’anno di nasc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DA ORA IN POI, TOGLIERE UN VASSOIO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Le domande avranno 3 opzioni di risposta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Un vassoio deve sempre rimanere vuo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. Solo chi crede fermamente può fare l’animatore in oratori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. Solo chi crede fermamente può fare l’animatore in oratori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5e5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I, solo i veri convint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NO, anche chi sente di voler stare con 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bambini, ma si sforza di crescere nella fed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 Se proprio uno NON crede ed è convinto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così, è meglio che non faccia  l’anima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. Solo chi crede fermamente può fare l’animatore in oratorio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SI, solo i veri convint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NO, anche chi sente di voler stare con 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bambini, ma si sforza di crescere nella fed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. Se proprio uno NON crede ed è convinto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   così, è meglio che non faccia  l’anima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. E’ ora di fare il segno della cro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Le prime 4 domande avranno 4 opzioni di risposta</a:t>
            </a: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Garamond"/>
              </a:rPr>
              <a:t>Un vassoio deve sempre rimanere vuot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Che vinca il migliore!!!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. E’ ora di fare il segno della cro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 Solo quelli che credon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Se non te la senti, stai in una stanza ed esc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quando la preghiera è finit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 Tutti gli animatori lo devono f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6. E’ ora di fare il segno della croc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. Solo quelli che credon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B. Se non te la senti, stai in una stanza ed esci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   quando la preghiera è finit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 Tutti gli animatori lo devono f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7. Un bambino ti chiede di dire una Ave Maria con lui per suo papà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7. Un bambino ti chiede di dire una Ave Maria con lui per suo papà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A.La dici…anche se non sei proprio convinto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B. Se non sei convinto, meglio non dirla ed </a:t>
            </a: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    essere coerente 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C. Chiami uno che è convinto perché la dica</a:t>
            </a: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    lui la preghiera con il bambin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7. Un bambino ti chiede di dire una Ave Maria con lui per suo papà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A.La dici…anche se non sei proprio convinto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B. Se non sei convinto, meglio non dirla ed </a:t>
            </a: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     essere coerente 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C. Chiami uno che è convinto perché la dica</a:t>
            </a: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     lui la preghiera con il bambino</a:t>
            </a: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8. L’animatore deve curare la propria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formazion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8. L’animatore deve curare la propria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formazion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 NO, non è indispensabi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SI, se non cresce lui, come può aiutare altri?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 Solo all’iniz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8. L’animatore deve curare la propria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formazion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. NO, non è indispensabil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SI, se non cresce lui, come può aiutare altri?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. Solo all’iniz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ULTIMA DOMANDA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TOGLIERE UN ALTRO VASSOIO.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La domanda avrà 2 opzioni di risposta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Mettere le merendine su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UN SOLO VASSOI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9. Quando parli ai bambini di Ges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L’oratorio è aperto a tutti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9. Quando parli ai bambini di Ges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21300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5e5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sponi le tue idee e il tuo parere, con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onestà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Esponi le idee della Chiesa e quindi del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luogo in cui svolgi servizio,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    indipendentemente dal tuo pensier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9. Quando parli ai bambini di Ges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21300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Esponi le tue idee e il tuo parere, con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    onestà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 Esponi le idee della Chiesa e quindi del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luogo in cui svolgi servizio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indipendentemente dal tuo pensier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L’oratorio è aperto a tutti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 SI, senza distinzione di colore o religio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. NO, solo ai cristiani e ai ragazzi buon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. I Musulmani è meglio non vengan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D. Chi bestemmia deve stare fu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. L’oratorio è aperto a tutti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. SI, senza distinzione di colore o religion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B. NO, solo ai cristiani e ai ragazzi buon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. I Musulmani è meglio non vengano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D. Chi bestemmia deve stare fuo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L’oratorio è fondato su Cris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L’oratorio è fondato su Cris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1300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A. NO, la fede non c’entra in oratorio…</a:t>
            </a: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             l’importante è crescere e stare bene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B.L’oratorio serve alle famiglie che non sanno</a:t>
            </a: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    dove lasciare i loro figl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C. SI, senza scont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D. L’oratorio serve per fare amicizie, divertir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. L’oratorio è fondato su Cristo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3213000"/>
            <a:ext cx="860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A. NO, la fede non c’entra in oratorio…</a:t>
            </a: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              l’importante è crescere e stare bene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B.L’oratorio serve alle famiglie che non sanno</a:t>
            </a: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    dove lasciare i loro figl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e5e5ff"/>
                </a:solidFill>
                <a:latin typeface="Garamond"/>
              </a:rPr>
              <a:t>C. SI, senza sconti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3399"/>
                </a:solidFill>
                <a:latin typeface="Garamond"/>
              </a:rPr>
              <a:t>D. L’oratorio serve per fare amicizie, divertirs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. Educatore vuol dir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34:39Z</dcterms:created>
  <dc:creator>Stefo&amp;Stefi</dc:creator>
  <dc:description/>
  <dc:language>en-US</dc:language>
  <cp:lastModifiedBy>Steo&amp;Stefi</cp:lastModifiedBy>
  <dcterms:modified xsi:type="dcterms:W3CDTF">2012-02-04T13:45:22Z</dcterms:modified>
  <cp:revision>9</cp:revision>
  <dc:subject/>
  <dc:title>13 1.000.0000 12 500.000 11 200.000 10 100.000 9 50.000 8 20.000 7 10.000 6 5.000 5 2.000 4 1.000 3 500 2 200 1 100</dc:title>
</cp:coreProperties>
</file>